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577-84A9-4BC8-B6EF-D6D643F4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E56F-BC69-482E-9455-23D8608A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B77-CB8D-4D02-A996-7B499380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846-04A3-4D99-989E-1740A355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76F-4186-4FD9-9047-38D916F3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6ED-1C07-4F1C-AEDB-9E56017D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D9F-53B5-43C5-8148-F09B39E5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1A2-BC3C-4B2A-8E36-6CD076B6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98720"/>
            <a:ext cx="82296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E5E-EC7E-44BD-9B7C-D8E059F2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4F6-2803-455C-B2AE-00D2DD26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050-68EB-4102-982A-264BEFBA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404-B660-4890-A630-8ACD17D4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25425000"/>
            <a:ext cx="289584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E3316-9062-46B1-B7E1-3EB30CB75D8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ixaDeTexto 3"/>
          <p:cNvSpPr/>
          <p:nvPr/>
        </p:nvSpPr>
        <p:spPr>
          <a:xfrm>
            <a:off x="17640" y="19080"/>
            <a:ext cx="9126360" cy="703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.E José Alves Quito extensão sala Francisco Nogueira Sobrin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getec: Giliarde Rodrigues de Arau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tângulo 4"/>
          <p:cNvSpPr/>
          <p:nvPr/>
        </p:nvSpPr>
        <p:spPr>
          <a:xfrm>
            <a:off x="17640" y="969840"/>
            <a:ext cx="9126360" cy="1623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Calibri"/>
              </a:rPr>
              <a:t>Educação Híbrida e o Ambiente Virtual de Ensino e Aprendizagem Mood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eta para baixo 5"/>
          <p:cNvSpPr/>
          <p:nvPr/>
        </p:nvSpPr>
        <p:spPr>
          <a:xfrm>
            <a:off x="4338720" y="2593800"/>
            <a:ext cx="349200" cy="48924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Elipse 6"/>
          <p:cNvSpPr/>
          <p:nvPr/>
        </p:nvSpPr>
        <p:spPr>
          <a:xfrm>
            <a:off x="3430440" y="3139920"/>
            <a:ext cx="2389320" cy="187164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Ambiente moodle: Vídeos, leituras, áudios</a:t>
            </a:r>
            <a:r>
              <a:rPr b="0" lang="pt-BR" sz="20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onector reto 7"/>
          <p:cNvSpPr/>
          <p:nvPr/>
        </p:nvSpPr>
        <p:spPr>
          <a:xfrm>
            <a:off x="5819760" y="4075200"/>
            <a:ext cx="1046160" cy="50940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8"/>
          <p:cNvSpPr/>
          <p:nvPr/>
        </p:nvSpPr>
        <p:spPr>
          <a:xfrm>
            <a:off x="6516720" y="4300560"/>
            <a:ext cx="2387520" cy="19382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Professor: Facilitador e mediador da aprendizag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ector reto 9"/>
          <p:cNvSpPr/>
          <p:nvPr/>
        </p:nvSpPr>
        <p:spPr>
          <a:xfrm flipH="1">
            <a:off x="2339640" y="4075200"/>
            <a:ext cx="1090440" cy="4046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10"/>
          <p:cNvSpPr/>
          <p:nvPr/>
        </p:nvSpPr>
        <p:spPr>
          <a:xfrm>
            <a:off x="3456000" y="5711760"/>
            <a:ext cx="2130480" cy="16844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Ensino Híbri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lipse 11"/>
          <p:cNvSpPr/>
          <p:nvPr/>
        </p:nvSpPr>
        <p:spPr>
          <a:xfrm>
            <a:off x="3456000" y="8172360"/>
            <a:ext cx="2389320" cy="24354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Atividades para fazer em casa, aprendizagem dentro e fora da esc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lipse 14"/>
          <p:cNvSpPr/>
          <p:nvPr/>
        </p:nvSpPr>
        <p:spPr>
          <a:xfrm>
            <a:off x="6684840" y="7461360"/>
            <a:ext cx="2051280" cy="1577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alibri"/>
              </a:rPr>
              <a:t>Solucionar confli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ector reto 15"/>
          <p:cNvSpPr/>
          <p:nvPr/>
        </p:nvSpPr>
        <p:spPr>
          <a:xfrm>
            <a:off x="7710480" y="6238800"/>
            <a:ext cx="0" cy="122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lipse 16"/>
          <p:cNvSpPr/>
          <p:nvPr/>
        </p:nvSpPr>
        <p:spPr>
          <a:xfrm>
            <a:off x="727200" y="4076640"/>
            <a:ext cx="1871640" cy="1712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alibri"/>
              </a:rPr>
              <a:t>Aluno como Tutor: Aliado do Profes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ector reto 18"/>
          <p:cNvSpPr/>
          <p:nvPr/>
        </p:nvSpPr>
        <p:spPr>
          <a:xfrm flipH="1" flipV="1">
            <a:off x="2517840" y="5219280"/>
            <a:ext cx="992160" cy="101916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lipse 19"/>
          <p:cNvSpPr/>
          <p:nvPr/>
        </p:nvSpPr>
        <p:spPr>
          <a:xfrm>
            <a:off x="3652920" y="11434680"/>
            <a:ext cx="2070000" cy="20844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alibri"/>
              </a:rPr>
              <a:t>Integração sala de aula e ambientes virtu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eta para baixo 2073"/>
          <p:cNvSpPr/>
          <p:nvPr/>
        </p:nvSpPr>
        <p:spPr>
          <a:xfrm>
            <a:off x="4352760" y="5121360"/>
            <a:ext cx="335160" cy="474480"/>
          </a:xfrm>
          <a:prstGeom prst="downArrow">
            <a:avLst>
              <a:gd name="adj1" fmla="val 50000"/>
              <a:gd name="adj2" fmla="val 4987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ector reto 2085"/>
          <p:cNvSpPr/>
          <p:nvPr/>
        </p:nvSpPr>
        <p:spPr>
          <a:xfrm flipV="1">
            <a:off x="5586480" y="5955840"/>
            <a:ext cx="1279440" cy="598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eta para baixo 2089"/>
          <p:cNvSpPr/>
          <p:nvPr/>
        </p:nvSpPr>
        <p:spPr>
          <a:xfrm>
            <a:off x="4338720" y="7461360"/>
            <a:ext cx="484200" cy="528480"/>
          </a:xfrm>
          <a:prstGeom prst="down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ta para baixo 2094"/>
          <p:cNvSpPr/>
          <p:nvPr/>
        </p:nvSpPr>
        <p:spPr>
          <a:xfrm>
            <a:off x="4352760" y="10790280"/>
            <a:ext cx="470160" cy="506520"/>
          </a:xfrm>
          <a:prstGeom prst="down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19:00Z</dcterms:created>
  <dc:creator>Demond Wong</dc:creator>
  <dc:description/>
  <dc:language>en-US</dc:language>
  <cp:lastModifiedBy>Giliarde</cp:lastModifiedBy>
  <cp:lastPrinted>2015-02-25T21:45:26Z</cp:lastPrinted>
  <dcterms:modified xsi:type="dcterms:W3CDTF">2016-07-09T01:33:16Z</dcterms:modified>
  <cp:revision>267</cp:revision>
  <dc:subject/>
  <dc:title>PowerPoint Presentation</dc:title>
</cp:coreProperties>
</file>